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680-5AEC-4BA0-B2A4-38494325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E3C-C1AB-44EF-AEAC-8F733AFA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16C-6AF7-416A-840B-7E9C67ED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DF4-CA34-4B93-929C-419B4C7A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48D-024B-44CD-BD09-6ECEE2D0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C3B-BEDE-4747-B719-A5E452E5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3CC-1149-4036-BBC8-4358FE0D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A8F-7FEB-4C9A-A69C-DBD7F79D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8E4-F4D0-4724-9B0A-C4A7005A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C44-E722-4482-91AF-62BF808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9F8-9BCB-4684-95D0-674D953A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F51-E36C-4496-BF13-A7449A84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9E6F-E859-4BE2-8A82-2D92924B9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daptaciones de los seres vivos al medi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7993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roceso por el cual una especie es capaz de sobrevivir y reproducirse explotando con éxito su particular nicho ecológ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et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584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Competencia intraespecífica: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los individuos de la misma especie tienen necesidades muy similares y compiten por los mismos recurs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Competencia interespecífic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: individuos de diferente especie que utilizan el mismo recurso. Por lo general la especie más eficaz acaba desplazando a la otra de su terri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38800" y="3330720"/>
            <a:ext cx="4454280" cy="33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321080" cy="289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932360" y="76500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petencia intrespecí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4149720"/>
            <a:ext cx="359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petencia interespecíf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op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782720"/>
            <a:ext cx="35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tipo de relación intraespecífica que proporciona ventajas a los individuos implicados. Suelen ser actividades como la cría de los jóvenes, defensa contra depredadores y obtención de al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57520" y="2133720"/>
            <a:ext cx="53355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pred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 una relación interespecífica en la que un organismo depredador se alimenta de otro organismo vivo (presa). Se distinguen varios tipos de depredadores según la relación que establece con la pre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ipos de depred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087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dadores verdade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atan y consumen un gran número de pre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598840" cy="146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916360" y="306864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onead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acan un gran número de presas, pero solo consumen parte de ellas que se restablecen con el tiempo (herbívo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2089080" cy="198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84640"/>
            <a:ext cx="61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ási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tablece con su presa o hospedador una relación muy estrecha. Ataca a pocas presas y puede terminar con la vida del hosped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516720" y="4846680"/>
            <a:ext cx="24303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utu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720" y="1711440"/>
            <a:ext cx="42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os organismos obtienen beneficio. En algunos casos esta relación es tan estrecha que ambos organismos no pueden vivir separados, en este caso reciben el nombre de simb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21080" y="203364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Comensalismo e inquilin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stas relaciones una especie se beneficia y a la otra le resulta indifer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ensalism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la especie beneficiada se aprovecha de la comida sob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quilinism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albergue que proporciona una especie a otra sin causarle ningún perju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897440" cy="3278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435640" y="934920"/>
            <a:ext cx="35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nsalis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s tiburones y el pez rémora. El pequeño pez se alimenta de los restos de la comida del tibu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292640"/>
            <a:ext cx="50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076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quilinismo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ballenas, también resultan el lugar que buscan algunos crustáceos para alojarse en su piel, y así se convierten en sus inquilin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8920" y="399564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¿Qué amenaza la biodivers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trucción y fragmentación de hábit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La destrucción de su hábitat es la principal causa de la extinción de una espe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También la destrucción parcial o fragmentación tiene consecuencias negativas (reducción de la cantidad de hábitat, y del tamaño de las poblacione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295200"/>
            <a:ext cx="8172360" cy="4718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0360" y="53434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ejemplo es el del oso panda y el bambú. Si los bosques de bambú desaparecen, el oso panda también lo har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ipos de adap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- Adaptaciones de comportamiento o adaptaciones etológi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-Adaptaciones fisiológica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ionamiento de los órganos in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- Adaptaciones anatómi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orma del cuerpo o estructura de las partes internas d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¿Qué amenaza la biodivers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ción de especies exó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introduce en un ecosistema una especie que antes no existía, la nueva especie provoca cambios entre las relaciones de las especies preexistentes, y algunas autóctonas pueden llegar a desaparecer. En la actualidad es la segunda ca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¿Qué amenaza la biodivers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sobreexplotación de espec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coso directo a una especie puede tener diferentes motivaciones (obtención de productos, coleccionismo…) fue durante mucho tiempo la principal causa de la extinción, aunque en la actualidad es la tercera ca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¿Qué amenaza la biodivers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cambio climát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ntaminación afecta a la biodiversidad. El cambio climático producido por la emisión de gases es un proceso muy rápido, que impide a las especies adaptarse a las condiciones o desplazarse a otras reg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98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¿Cómo proteger la biodiversid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ció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 situ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ción y conservación de los ecosistemas en los que habitan las especies amenazadas, por ejemplo parques nacionales, reserv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untos calientes de la biodiversidad: es un área del territorio donde hay una especial concentración de especies, algunas autóct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872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TO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¿Cómo proteger la biodivers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servació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ex situ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n ocasiones no es posible la protección de las especies en su hábitat y hay que trasladarlos a lugares como centros de investigación, zoos, invernadero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spaña las especies cuya protección exige medidas de conservación se clasifican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eligro de extinción: supervivencia poco probable si los factores que han causado su actual situación siguen act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ulnerables: corren el riesgo de pasar a la anterior categoría si no se corrigen los factores adversos que les afec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aptaciones et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1080" y="1860480"/>
            <a:ext cx="5614920" cy="4016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867280" y="201312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agutí entierra las semillas que no ingiere para sobrevivir cuando el alimento esca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aptaciones fis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6480" y="1628280"/>
            <a:ext cx="3467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búhos presentan ojos muy grandes y su oído está extremadamente desarrollado, de modo que pueden localizar a sus presas en la oscuri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360" y="1700280"/>
            <a:ext cx="57960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aptaciones anatóm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7680" y="1700280"/>
            <a:ext cx="56926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56360" y="2008080"/>
            <a:ext cx="28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camaleones han desarrollado un “mimetismo” que consiste en imitar el aspecto de algún objeto o ser vivo del 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94232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os seres vivos modifican el medi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 igual que las condiciones del medio influyen en los seres vivos, los seres vivos modifican el medio que les rodea. Estos son procesos que se producen de forma lenta y difícil de apreci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ir y destruir ro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cumulación de esqueletos de coral que forman islas o el crecimiento de las raíces que rompe ro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r la composición de la atmósf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parición del oxígeno en la tierra primitiva gracias a los primeros organismos fotosin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r el cli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n la selva tropical la abundante vegetación mantiene una elevada humedad ambi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3680" y="3338640"/>
            <a:ext cx="4233960" cy="3178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16360" y="3287880"/>
            <a:ext cx="4321440" cy="323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20640"/>
            <a:ext cx="87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er humano también ha modificado el medio, pero a diferencia del resto de seres vivos, este proceso se realiza con rapidez y drástic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laciones entre organism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sobrevivir, los organismos necesitan relacionarse con el resto de organismos que le rodean. Según como sea esta interacción se puede clasificar de diferente man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18:23:06Z</dcterms:created>
  <dc:creator>RaquelH</dc:creator>
  <dc:description/>
  <dc:language>en-US</dc:language>
  <cp:lastModifiedBy>Mar López</cp:lastModifiedBy>
  <dcterms:modified xsi:type="dcterms:W3CDTF">2015-05-15T05:55:22Z</dcterms:modified>
  <cp:revision>3</cp:revision>
  <dc:subject/>
  <dc:title>Adaptaciones de los seres vivos al medio.</dc:title>
</cp:coreProperties>
</file>